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609-8059-43DE-9C04-DE39C03E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426-AACE-4147-8230-4320FC25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255-CAB2-4E2A-BBC3-58E0A6A6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565-7F23-4CE6-83CC-B47E2E03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0FE-2284-4415-ACCD-2C5B486D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5DD-E74F-49C5-9EF8-FE356CAA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7A2-7CB9-4CB6-BB92-5425E74D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4F5-8FC3-414E-98E3-DCEDC2B9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248-71D1-4462-925E-D3022207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C22-6011-43AE-A86C-C00ED4AF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EB3-B2D7-4A85-8F0D-AF1F6663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9B7-8A06-4B4B-94EA-4A0AA22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998F-723F-4F87-9F05-C33520F30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76520" y="2362320"/>
            <a:ext cx="6540840" cy="3098520"/>
            <a:chOff x="1676520" y="2362320"/>
            <a:chExt cx="6540840" cy="3098520"/>
          </a:xfrm>
        </p:grpSpPr>
        <p:grpSp>
          <p:nvGrpSpPr>
            <p:cNvPr id="43" name=""/>
            <p:cNvGrpSpPr/>
            <p:nvPr/>
          </p:nvGrpSpPr>
          <p:grpSpPr>
            <a:xfrm>
              <a:off x="3691800" y="3570120"/>
              <a:ext cx="1056600" cy="1099080"/>
              <a:chOff x="3691800" y="3570120"/>
              <a:chExt cx="1056600" cy="1099080"/>
            </a:xfrm>
          </p:grpSpPr>
          <p:sp>
            <p:nvSpPr>
              <p:cNvPr id="44" name=""/>
              <p:cNvSpPr/>
              <p:nvPr/>
            </p:nvSpPr>
            <p:spPr>
              <a:xfrm>
                <a:off x="4151520" y="3570120"/>
                <a:ext cx="129960" cy="109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" name=""/>
              <p:cNvCxnSpPr/>
              <p:nvPr/>
            </p:nvCxnSpPr>
            <p:spPr>
              <a:xfrm flipH="1">
                <a:off x="3691800" y="3832200"/>
                <a:ext cx="459720" cy="22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6" name=""/>
              <p:cNvCxnSpPr/>
              <p:nvPr/>
            </p:nvCxnSpPr>
            <p:spPr>
              <a:xfrm flipH="1" flipV="1">
                <a:off x="4281120" y="3844800"/>
                <a:ext cx="46692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7" name=""/>
              <p:cNvCxnSpPr/>
              <p:nvPr/>
            </p:nvCxnSpPr>
            <p:spPr>
              <a:xfrm flipH="1" flipV="1">
                <a:off x="4281120" y="3953520"/>
                <a:ext cx="466920" cy="21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" name=""/>
              <p:cNvCxnSpPr/>
              <p:nvPr/>
            </p:nvCxnSpPr>
            <p:spPr>
              <a:xfrm flipH="1" flipV="1">
                <a:off x="4281120" y="4070880"/>
                <a:ext cx="46692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" name=""/>
              <p:cNvCxnSpPr/>
              <p:nvPr/>
            </p:nvCxnSpPr>
            <p:spPr>
              <a:xfrm flipH="1" flipV="1">
                <a:off x="4281120" y="4168440"/>
                <a:ext cx="46692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" name=""/>
              <p:cNvCxnSpPr/>
              <p:nvPr/>
            </p:nvCxnSpPr>
            <p:spPr>
              <a:xfrm flipH="1" flipV="1">
                <a:off x="4281120" y="4284720"/>
                <a:ext cx="46692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" name=""/>
              <p:cNvCxnSpPr/>
              <p:nvPr/>
            </p:nvCxnSpPr>
            <p:spPr>
              <a:xfrm flipH="1">
                <a:off x="3691800" y="3941640"/>
                <a:ext cx="459720" cy="22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" name=""/>
              <p:cNvCxnSpPr/>
              <p:nvPr/>
            </p:nvCxnSpPr>
            <p:spPr>
              <a:xfrm flipH="1">
                <a:off x="3691800" y="4058280"/>
                <a:ext cx="459720" cy="22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" name=""/>
              <p:cNvCxnSpPr/>
              <p:nvPr/>
            </p:nvCxnSpPr>
            <p:spPr>
              <a:xfrm flipH="1">
                <a:off x="3692520" y="4168800"/>
                <a:ext cx="459720" cy="22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4" name=""/>
              <p:cNvCxnSpPr/>
              <p:nvPr/>
            </p:nvCxnSpPr>
            <p:spPr>
              <a:xfrm flipH="1">
                <a:off x="3692520" y="4285080"/>
                <a:ext cx="459720" cy="22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" name=""/>
              <p:cNvCxnSpPr/>
              <p:nvPr/>
            </p:nvCxnSpPr>
            <p:spPr>
              <a:xfrm>
                <a:off x="3693240" y="4668480"/>
                <a:ext cx="1055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" name=""/>
              <p:cNvCxnSpPr/>
              <p:nvPr/>
            </p:nvCxnSpPr>
            <p:spPr>
              <a:xfrm>
                <a:off x="3692520" y="4057920"/>
                <a:ext cx="1440" cy="610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" name=""/>
              <p:cNvCxnSpPr/>
              <p:nvPr/>
            </p:nvCxnSpPr>
            <p:spPr>
              <a:xfrm>
                <a:off x="4747320" y="4057920"/>
                <a:ext cx="1440" cy="610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8" name=""/>
            <p:cNvSpPr/>
            <p:nvPr/>
          </p:nvSpPr>
          <p:spPr>
            <a:xfrm>
              <a:off x="6540480" y="2971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48360" y="3781440"/>
              <a:ext cx="866880" cy="12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endCxn id="59" idx="1"/>
            </p:cNvCxnSpPr>
            <p:nvPr/>
          </p:nvCxnSpPr>
          <p:spPr>
            <a:xfrm>
              <a:off x="4419720" y="3733560"/>
              <a:ext cx="1629000" cy="649800"/>
            </a:xfrm>
            <a:prstGeom prst="bentConnector3">
              <a:avLst>
                <a:gd name="adj1" fmla="val 4290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9" idx="0"/>
            </p:cNvCxnSpPr>
            <p:nvPr/>
          </p:nvCxnSpPr>
          <p:spPr>
            <a:xfrm flipH="1" flipV="1" rot="5400000">
              <a:off x="7075080" y="2639520"/>
              <a:ext cx="548640" cy="1735920"/>
            </a:xfrm>
            <a:prstGeom prst="bentConnector3">
              <a:avLst>
                <a:gd name="adj1" fmla="val 7110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9" idx="2"/>
            </p:cNvCxnSpPr>
            <p:nvPr/>
          </p:nvCxnSpPr>
          <p:spPr>
            <a:xfrm flipH="1" rot="16200000">
              <a:off x="7185240" y="4281120"/>
              <a:ext cx="329040" cy="1735920"/>
            </a:xfrm>
            <a:prstGeom prst="bentConnector3">
              <a:avLst>
                <a:gd name="adj1" fmla="val 8521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"/>
            <p:cNvSpPr/>
            <p:nvPr/>
          </p:nvSpPr>
          <p:spPr>
            <a:xfrm>
              <a:off x="6048360" y="4110120"/>
              <a:ext cx="866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K1 Settling T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5029200"/>
              <a:ext cx="86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4229280"/>
              <a:ext cx="325440" cy="328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733920" y="4723560"/>
              <a:ext cx="976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ynamic Cross Flow Filtr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000240" y="2602080"/>
              <a:ext cx="260640" cy="261720"/>
              <a:chOff x="3000240" y="2602080"/>
              <a:chExt cx="260640" cy="261720"/>
            </a:xfrm>
          </p:grpSpPr>
          <p:sp>
            <p:nvSpPr>
              <p:cNvPr id="68" name=""/>
              <p:cNvSpPr/>
              <p:nvPr/>
            </p:nvSpPr>
            <p:spPr>
              <a:xfrm>
                <a:off x="3000240" y="2602080"/>
                <a:ext cx="260640" cy="26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5400000">
                <a:off x="3048120" y="2640240"/>
                <a:ext cx="222480" cy="181800"/>
              </a:xfrm>
              <a:prstGeom prst="triangle">
                <a:avLst>
                  <a:gd name="adj" fmla="val 51745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1752480" y="2736720"/>
              <a:ext cx="124776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76520" y="2362320"/>
              <a:ext cx="249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ysed Ce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362320"/>
              <a:ext cx="86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69" idx="0"/>
              <a:endCxn id="44" idx="0"/>
            </p:cNvCxnSpPr>
            <p:nvPr/>
          </p:nvCxnSpPr>
          <p:spPr>
            <a:xfrm>
              <a:off x="3250440" y="2735640"/>
              <a:ext cx="966240" cy="8348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 flipH="1">
              <a:off x="2628720" y="37339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80040" y="37339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29000" y="3556080"/>
              <a:ext cx="325440" cy="328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2590920"/>
              <a:ext cx="304560" cy="3045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80440" y="3073320"/>
              <a:ext cx="304560" cy="3049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67480" y="5156280"/>
              <a:ext cx="304920" cy="3045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889000" y="3309840"/>
            <a:ext cx="1352880" cy="1486440"/>
            <a:chOff x="2889000" y="3309840"/>
            <a:chExt cx="1352880" cy="1486440"/>
          </a:xfrm>
        </p:grpSpPr>
        <p:sp>
          <p:nvSpPr>
            <p:cNvPr id="81" name=""/>
            <p:cNvSpPr/>
            <p:nvPr/>
          </p:nvSpPr>
          <p:spPr>
            <a:xfrm>
              <a:off x="3477600" y="3309840"/>
              <a:ext cx="16668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 flipH="1">
              <a:off x="2889000" y="3664440"/>
              <a:ext cx="588960" cy="30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" name=""/>
            <p:cNvCxnSpPr/>
            <p:nvPr/>
          </p:nvCxnSpPr>
          <p:spPr>
            <a:xfrm flipH="1" flipV="1">
              <a:off x="3643560" y="3681360"/>
              <a:ext cx="597960" cy="2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/>
            <p:nvPr/>
          </p:nvCxnSpPr>
          <p:spPr>
            <a:xfrm flipH="1" flipV="1">
              <a:off x="3643560" y="3829320"/>
              <a:ext cx="597960" cy="2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" name=""/>
            <p:cNvCxnSpPr/>
            <p:nvPr/>
          </p:nvCxnSpPr>
          <p:spPr>
            <a:xfrm flipH="1" flipV="1">
              <a:off x="3643560" y="3987000"/>
              <a:ext cx="597960" cy="2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" name=""/>
            <p:cNvCxnSpPr/>
            <p:nvPr/>
          </p:nvCxnSpPr>
          <p:spPr>
            <a:xfrm flipH="1" flipV="1">
              <a:off x="3643560" y="4119120"/>
              <a:ext cx="597960" cy="2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" name=""/>
            <p:cNvCxnSpPr/>
            <p:nvPr/>
          </p:nvCxnSpPr>
          <p:spPr>
            <a:xfrm flipH="1" flipV="1">
              <a:off x="3643560" y="4276440"/>
              <a:ext cx="597960" cy="29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/>
            <p:nvPr/>
          </p:nvCxnSpPr>
          <p:spPr>
            <a:xfrm flipH="1">
              <a:off x="2889000" y="3812760"/>
              <a:ext cx="588960" cy="30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/>
            <p:nvPr/>
          </p:nvCxnSpPr>
          <p:spPr>
            <a:xfrm flipH="1">
              <a:off x="2889000" y="3970080"/>
              <a:ext cx="588960" cy="30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" name=""/>
            <p:cNvCxnSpPr/>
            <p:nvPr/>
          </p:nvCxnSpPr>
          <p:spPr>
            <a:xfrm flipH="1">
              <a:off x="2889720" y="4119480"/>
              <a:ext cx="588960" cy="30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/>
            <p:nvPr/>
          </p:nvCxnSpPr>
          <p:spPr>
            <a:xfrm flipH="1">
              <a:off x="2889720" y="4276800"/>
              <a:ext cx="588960" cy="30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/>
            <p:nvPr/>
          </p:nvCxnSpPr>
          <p:spPr>
            <a:xfrm>
              <a:off x="2890080" y="4795560"/>
              <a:ext cx="135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/>
            <p:nvPr/>
          </p:nvCxnSpPr>
          <p:spPr>
            <a:xfrm>
              <a:off x="2889360" y="3969720"/>
              <a:ext cx="1440" cy="82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/>
            <p:nvPr/>
          </p:nvCxnSpPr>
          <p:spPr>
            <a:xfrm>
              <a:off x="4240800" y="3969720"/>
              <a:ext cx="1440" cy="82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5" name=""/>
          <p:cNvSpPr/>
          <p:nvPr/>
        </p:nvSpPr>
        <p:spPr>
          <a:xfrm>
            <a:off x="5907240" y="3595680"/>
            <a:ext cx="1110960" cy="16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endCxn id="95" idx="1"/>
          </p:cNvCxnSpPr>
          <p:nvPr/>
        </p:nvCxnSpPr>
        <p:spPr>
          <a:xfrm>
            <a:off x="3820680" y="3532320"/>
            <a:ext cx="2086920" cy="8784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5" idx="2"/>
          </p:cNvCxnSpPr>
          <p:nvPr/>
        </p:nvCxnSpPr>
        <p:spPr>
          <a:xfrm flipH="1" rot="16200000">
            <a:off x="7352280" y="4332600"/>
            <a:ext cx="445320" cy="22248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095880" y="4191120"/>
            <a:ext cx="11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89680" y="4200480"/>
            <a:ext cx="41724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940840" y="5072760"/>
            <a:ext cx="125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Cross Flow Fil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01960" y="2000160"/>
            <a:ext cx="333360" cy="354240"/>
            <a:chOff x="2001960" y="2000160"/>
            <a:chExt cx="333360" cy="354240"/>
          </a:xfrm>
        </p:grpSpPr>
        <p:sp>
          <p:nvSpPr>
            <p:cNvPr id="102" name=""/>
            <p:cNvSpPr/>
            <p:nvPr/>
          </p:nvSpPr>
          <p:spPr>
            <a:xfrm>
              <a:off x="2001960" y="2000160"/>
              <a:ext cx="333360" cy="35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2055960" y="2058840"/>
              <a:ext cx="300960" cy="2325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403200" y="2182320"/>
            <a:ext cx="159876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905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5240" y="1676520"/>
            <a:ext cx="111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3" idx="0"/>
            <a:endCxn id="81" idx="0"/>
          </p:cNvCxnSpPr>
          <p:nvPr/>
        </p:nvCxnSpPr>
        <p:spPr>
          <a:xfrm>
            <a:off x="2327400" y="2180880"/>
            <a:ext cx="1232280" cy="11293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flipH="1">
            <a:off x="1525680" y="3532320"/>
            <a:ext cx="19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41760" y="353232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0960" y="3290760"/>
            <a:ext cx="41760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0640" y="1986120"/>
            <a:ext cx="390600" cy="411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6320" y="5454720"/>
            <a:ext cx="390600" cy="412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ss /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124080"/>
            <a:ext cx="111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410080"/>
            <a:ext cx="111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Bio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114800" y="3338640"/>
            <a:ext cx="333360" cy="353880"/>
            <a:chOff x="4114800" y="3338640"/>
            <a:chExt cx="333360" cy="353880"/>
          </a:xfrm>
        </p:grpSpPr>
        <p:sp>
          <p:nvSpPr>
            <p:cNvPr id="117" name=""/>
            <p:cNvSpPr/>
            <p:nvPr/>
          </p:nvSpPr>
          <p:spPr>
            <a:xfrm>
              <a:off x="4114800" y="3338640"/>
              <a:ext cx="333360" cy="35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4168800" y="3397320"/>
              <a:ext cx="300960" cy="2325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618800" y="3197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5" idx="0"/>
          </p:cNvCxnSpPr>
          <p:nvPr/>
        </p:nvCxnSpPr>
        <p:spPr>
          <a:xfrm flipH="1" flipV="1" rot="5400000">
            <a:off x="7377840" y="2271960"/>
            <a:ext cx="408600" cy="22392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20120" y="2986200"/>
            <a:ext cx="390240" cy="412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2819520"/>
            <a:ext cx="111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8:09:58Z</dcterms:created>
  <dc:creator>(</dc:creator>
  <dc:description/>
  <dc:language>en-US</dc:language>
  <cp:lastModifiedBy>Vinod</cp:lastModifiedBy>
  <dcterms:modified xsi:type="dcterms:W3CDTF">2010-03-09T02:56:19Z</dcterms:modified>
  <cp:revision>15</cp:revision>
  <dc:subject/>
  <dc:title>Slide 1</dc:title>
</cp:coreProperties>
</file>